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2934"/>
        <c:axId val="39308399"/>
      </c:barChart>
      <c:catAx>
        <c:axId val="2692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08399"/>
        <c:crosses val="autoZero"/>
        <c:auto val="1"/>
        <c:lblAlgn val="ctr"/>
        <c:lblOffset val="100"/>
        <c:noMultiLvlLbl val="0"/>
      </c:catAx>
      <c:valAx>
        <c:axId val="39308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0FD-E91B-4056-BA5E-D41D9CA3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BEE-ED42-4AEA-AF61-DDD39F3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99B-62CC-4BAF-9E31-4F5B40BE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127-8570-4EB6-871F-C6AFCB4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CC2-0881-4ADA-8506-AFA25E1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01D-916B-4A20-92F4-D6671E9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182-9BA9-4B69-8328-A839DCE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4A7-87E6-41AF-ACAF-7BC5D3A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427-4D86-48E3-9AC3-C73969C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F93-5137-4E14-9469-CA3F654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6B4-A635-44EC-979C-E1782B3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8C3-2F39-4BDF-8A05-1ABA1E2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3208-C8E9-459D-8C3E-6D7A7E120E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